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2B1-13A1-4DF1-9A8B-0A86948D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6AB-C772-4AA7-933B-1B0D97A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FB5-96CE-4D0B-A2B9-8C9EDB18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0CB-9D6E-4F71-9320-6A3F229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26E-68CA-4886-998E-634EC78E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DD8D-3FC5-49A7-AA83-F0AAEF6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CBD9-BDE9-4952-9740-D82AD44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1B3F-3AED-4146-B2AB-187C471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823B-4C1D-4F65-ADB6-69DA9DC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013-0A50-4625-A0C4-294287B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DC9E-A15B-4BD2-B0F0-2FD86FC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9BA-3F7A-4214-AAD1-7A6CA67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BA6A-CD50-438A-8B88-F58A66B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6C7A-4A2C-4AC1-B7E9-3C91A4E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00A-8D73-46F6-BC03-010F067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B6A-620C-41F7-9365-DBF572FC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E2E-6F25-44D4-8618-194F152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C6-D9C2-4642-A467-FA65D2B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AB4-04B3-4AF5-B289-0A605119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AEF-71B7-4F1E-A9E4-1E69426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FEE-0AE4-4F04-B5C5-D007A299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110-53B6-4838-BAE1-462F0E2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896-B9AD-44C1-BFEF-0C5D79AB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CF5-BCDB-45CC-8EC0-4F75E9A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B53-3A6D-4CA1-877D-A949D6D48CB0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A33C-1C8E-453F-AC07-7EEB421E0DD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1FEA-71BE-4E2E-8CA6-542F9EFDDF9E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2684-EDE9-407B-86B4-76797F7CCA0B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5.xml"/><Relationship Id="rId3" Type="http://schemas.openxmlformats.org/officeDocument/2006/relationships/slide" Target="slide20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762120"/>
            <a:ext cx="7238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章 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VFP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的基本操作方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2133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学习要点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变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表达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B9D-1A24-461D-B370-F8840A73D6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C8712-941B-48EB-9C5A-F09DDFFEA4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295280"/>
            <a:ext cx="84582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1                              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除系统内存变量以外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1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BB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2 ALL LIKE  ?A* 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第一个字符是任意字符，第二个字符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2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AME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3 ALL EXCEPT  ?A*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自定义内存变量中第二个字符不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2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BB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00520" y="272880"/>
            <a:ext cx="24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SAVE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命令示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A14-0B63-47D9-935A-67DF356444B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8189B-C88E-436C-B30F-F287B99B8C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838080"/>
            <a:ext cx="8610480" cy="431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87440" y="15228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4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删除内存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920" y="1011240"/>
            <a:ext cx="1447560" cy="459720"/>
            <a:chOff x="304920" y="1011240"/>
            <a:chExt cx="1447560" cy="459720"/>
          </a:xfrm>
        </p:grpSpPr>
        <p:sp>
          <p:nvSpPr>
            <p:cNvPr id="180" name=""/>
            <p:cNvSpPr/>
            <p:nvPr/>
          </p:nvSpPr>
          <p:spPr>
            <a:xfrm>
              <a:off x="913680" y="101124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101124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154600" y="106668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9440" y="156528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指定的内存变量。当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多个变量时，变量名之间用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隔开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514600"/>
            <a:ext cx="1447560" cy="459720"/>
            <a:chOff x="304920" y="2514600"/>
            <a:chExt cx="1447560" cy="459720"/>
          </a:xfrm>
        </p:grpSpPr>
        <p:sp>
          <p:nvSpPr>
            <p:cNvPr id="185" name=""/>
            <p:cNvSpPr/>
            <p:nvPr/>
          </p:nvSpPr>
          <p:spPr>
            <a:xfrm>
              <a:off x="792000" y="25146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51460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139480" y="251460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 [LIKE/EXCEPT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指定的内存变量。省略所有选择项时，则删除所有的内存变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3809880"/>
            <a:ext cx="1447560" cy="459720"/>
            <a:chOff x="304920" y="3809880"/>
            <a:chExt cx="1447560" cy="459720"/>
          </a:xfrm>
        </p:grpSpPr>
        <p:sp>
          <p:nvSpPr>
            <p:cNvPr id="190" name=""/>
            <p:cNvSpPr/>
            <p:nvPr/>
          </p:nvSpPr>
          <p:spPr>
            <a:xfrm>
              <a:off x="792000" y="38098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三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8098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830960" y="38098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CLEAR MEMOR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221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当前内存中的所有内存变量。它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RELEASE AL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效果完全相同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8440" y="530208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参数与前述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760-0C2A-481F-8B4C-BD7495BB89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CA7C7-A5FF-468A-B191-71E6008441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17160" y="2444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删除内存变量示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3160" y="93492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BB,CC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7" name="bmpF060" descr=""/>
          <p:cNvPicPr/>
          <p:nvPr/>
        </p:nvPicPr>
        <p:blipFill>
          <a:blip r:embed="rId1"/>
          <a:stretch/>
        </p:blipFill>
        <p:spPr>
          <a:xfrm>
            <a:off x="3235320" y="2057400"/>
            <a:ext cx="5222880" cy="479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59000" y="2790720"/>
            <a:ext cx="355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 LIKE ?A*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9" name="bmp2112" descr=""/>
          <p:cNvPicPr/>
          <p:nvPr/>
        </p:nvPicPr>
        <p:blipFill>
          <a:blip r:embed="rId2"/>
          <a:stretch/>
        </p:blipFill>
        <p:spPr>
          <a:xfrm>
            <a:off x="4411800" y="4016520"/>
            <a:ext cx="2446200" cy="25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54040" y="454356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        （空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6668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495680"/>
            <a:ext cx="8686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282-5292-425A-92B9-9F6AB951291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272F0-F3F9-4118-8A4F-46CDE9AA55A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67640" y="152280"/>
            <a:ext cx="31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5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恢复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760" y="8794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如果需要使用已保存的内存变量时，可用下述命令恢复 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20840"/>
            <a:ext cx="861048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8760" y="1314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格式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1981080"/>
            <a:ext cx="8636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将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的内存变量文件中所保存的内存变量从磁盘读回内存重新使用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执行恢复操作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FROM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恢复内存变量的来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ADDITIVE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保留当前内存中的内存变量，将指定文件中的内存变量添加到当前内存变量之后。 若省略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DDITIV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选择项，则内存中已有的内存变量全部释放，将指定文件中的内存变量调入内存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726-A94A-41CA-B79A-3F6A3EABC42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15F60-B1F8-429E-BC80-5E011D1830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73240" y="1522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恢复内存变量示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34720" y="67788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1" name="bmp11B0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5246640" cy="822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34720" y="256212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3" name="bmp3213" descr=""/>
          <p:cNvPicPr/>
          <p:nvPr/>
        </p:nvPicPr>
        <p:blipFill>
          <a:blip r:embed="rId2"/>
          <a:stretch/>
        </p:blipFill>
        <p:spPr>
          <a:xfrm>
            <a:off x="3222720" y="3657600"/>
            <a:ext cx="5235480" cy="365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1560" y="401004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3 ADDITIVE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5" name="bmp11B0" descr=""/>
          <p:cNvPicPr/>
          <p:nvPr/>
        </p:nvPicPr>
        <p:blipFill>
          <a:blip r:embed="rId3"/>
          <a:stretch/>
        </p:blipFill>
        <p:spPr>
          <a:xfrm>
            <a:off x="3276720" y="5121360"/>
            <a:ext cx="5246640" cy="822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666-C5CB-4462-A9BB-0AF4F288AF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81C8-8900-44C2-84C6-671589A982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581280" y="6858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数组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2692440" y="297180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2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定义数组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2687760" y="411480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3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的赋值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533412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1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与下标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274320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EC-8537-4F8A-8E7F-2A2C21DBDBC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80F78-48C1-4D18-88A7-90D290DB18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943600" y="6032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0480" y="15228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数组与下标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793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标变量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组具有相同的变量名，而下标不同的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组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存储在一个变量中由单个变量名引用的有序数据集合。数组中的每一个元素都可以通过一个数值下标被引用。在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，一个数组中的数据不必是同一种数据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8280" y="2784600"/>
            <a:ext cx="25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10040" y="27432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下标变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81080" y="3200040"/>
            <a:ext cx="9082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49200" y="3276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变量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2004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17160" y="3581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下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2908440"/>
            <a:ext cx="1079640" cy="215640"/>
          </a:xfrm>
          <a:prstGeom prst="rightArrow">
            <a:avLst>
              <a:gd name="adj1" fmla="val 50000"/>
              <a:gd name="adj2" fmla="val 1251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8160" y="2784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(1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9352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720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3840" y="35812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995360" y="3200400"/>
            <a:ext cx="947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46880" y="35812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元素序号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56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由若干单下标变量组成的数组称为一维数组，由若干双下标变量组成的数组称为二维数组。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，只允许使用一维数组或二维数组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2F1-A688-4339-B40B-90CE42C9A3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D4A2C-D072-490B-B1D6-AF0CB7E238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295280"/>
            <a:ext cx="8610480" cy="17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1960" y="152280"/>
            <a:ext cx="25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定义数组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793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使用数组时一定要先定义 ，有两条命令可以定义数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4920" y="1447920"/>
            <a:ext cx="1447560" cy="459720"/>
            <a:chOff x="304920" y="1447920"/>
            <a:chExt cx="1447560" cy="459720"/>
          </a:xfrm>
        </p:grpSpPr>
        <p:sp>
          <p:nvSpPr>
            <p:cNvPr id="244" name=""/>
            <p:cNvSpPr/>
            <p:nvPr/>
          </p:nvSpPr>
          <p:spPr>
            <a:xfrm>
              <a:off x="913680" y="14479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144792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04920" y="2362320"/>
            <a:ext cx="1447560" cy="459720"/>
            <a:chOff x="304920" y="2362320"/>
            <a:chExt cx="1447560" cy="459720"/>
          </a:xfrm>
        </p:grpSpPr>
        <p:sp>
          <p:nvSpPr>
            <p:cNvPr id="247" name=""/>
            <p:cNvSpPr/>
            <p:nvPr/>
          </p:nvSpPr>
          <p:spPr>
            <a:xfrm>
              <a:off x="792000" y="236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920" y="236232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077920" y="137160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MENSION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2225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165480"/>
            <a:ext cx="8610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一个或多个一维或二维的内存变量数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定义数组的命令动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数组的名称，其规定与内存变量名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数组的维数和大小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数组的下标的起始值为１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同一数组中的数组元素可以有不同的数据类型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二维数组中各元素按行的顺序依次排列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5BC-0106-49F6-8439-12F6D217AC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5ECD3-B661-4AAC-9E65-5AB6EBCE07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每个数组占用一个内存变量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除了可以分别对数组元素赋值以外，也可对数组中的所有元素赋同一初值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功能完全相同，常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2840" y="2362320"/>
            <a:ext cx="841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DIMENSION 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     ,    3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     BB          (  4     ,   8   )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527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数组：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2,3),BB(4,8)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也可以一次只定义一个数组：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2,3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也可以只定义一维数组：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6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0920" y="19051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定义数组命令使用示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18240" y="3776760"/>
            <a:ext cx="287280" cy="718920"/>
          </a:xfrm>
          <a:prstGeom prst="downArrow">
            <a:avLst>
              <a:gd name="adj1" fmla="val 50000"/>
              <a:gd name="adj2" fmla="val 6256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32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D1C-7A60-489D-91A9-EB930CB21EF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A23D0-E45A-4571-995D-F4A2593CAC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717480"/>
            <a:ext cx="8642160" cy="530244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7931e"/>
            </a:solidFill>
            <a:miter/>
          </a:ln>
          <a:effectLst>
            <a:outerShdw dist="107932" dir="2700000" blurRad="0" rotWithShape="0">
              <a:srgbClr val="33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56800" y="152280"/>
            <a:ext cx="41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数组元素的赋值操作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914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TOR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TO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632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83808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895480" y="12949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5520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8892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去向子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62520" y="12949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553080" y="12949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92200" y="1981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13360" y="1981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数组名或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438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0 TO A               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数值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所有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"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李磊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" TO A(2,1)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字符串“李磊”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行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列的元素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212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5520" y="2438280"/>
            <a:ext cx="869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7840" y="373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65760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85240" y="3809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=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1911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5160" y="4495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数组名或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029200" y="411444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7480" y="4800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赋值操作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57600" y="4495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440" y="535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389560"/>
            <a:ext cx="990360" cy="40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78080" y="54100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=.T.  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逻辑真值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所有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5950080" y="6248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9C4-2C68-46F9-AE0B-392D8B43E5F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A323C-A802-4EF0-B03A-960D8BF455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6858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章 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VFP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的基本操作方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692440" y="248904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2687760" y="313704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3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与运算符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5257800" y="4495680"/>
            <a:ext cx="1747800" cy="520920"/>
          </a:xfrm>
          <a:custGeom>
            <a:avLst/>
            <a:gdLst>
              <a:gd name="textAreaLeft" fmla="*/ 33480 w 1747800"/>
              <a:gd name="textAreaRight" fmla="*/ 1714320 w 174780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72438" h="21600">
                <a:moveTo>
                  <a:pt x="0" y="0"/>
                </a:moveTo>
                <a:lnTo>
                  <a:pt x="72438" y="0"/>
                </a:lnTo>
                <a:lnTo>
                  <a:pt x="72438" y="21600"/>
                </a:lnTo>
                <a:lnTo>
                  <a:pt x="0" y="21600"/>
                </a:lnTo>
                <a:close/>
              </a:path>
              <a:path fill="lightenLess" w="72438" h="21600">
                <a:moveTo>
                  <a:pt x="0" y="0"/>
                </a:moveTo>
                <a:lnTo>
                  <a:pt x="72438" y="0"/>
                </a:lnTo>
                <a:lnTo>
                  <a:pt x="71038" y="1400"/>
                </a:lnTo>
                <a:lnTo>
                  <a:pt x="1400" y="1400"/>
                </a:lnTo>
                <a:close/>
              </a:path>
              <a:path fill="darken" w="72438" h="21600">
                <a:moveTo>
                  <a:pt x="72438" y="0"/>
                </a:moveTo>
                <a:lnTo>
                  <a:pt x="72438" y="21600"/>
                </a:lnTo>
                <a:lnTo>
                  <a:pt x="71038" y="20200"/>
                </a:lnTo>
                <a:lnTo>
                  <a:pt x="71038" y="1400"/>
                </a:lnTo>
                <a:close/>
              </a:path>
              <a:path fill="darkenLess" w="72438" h="21600">
                <a:moveTo>
                  <a:pt x="72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38" y="20200"/>
                </a:lnTo>
                <a:close/>
              </a:path>
              <a:path fill="lighten" w="72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  VFP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的基本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2692440" y="38098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7760" y="4495680"/>
            <a:ext cx="1807920" cy="520920"/>
          </a:xfrm>
          <a:custGeom>
            <a:avLst/>
            <a:gdLst>
              <a:gd name="textAreaLeft" fmla="*/ 33480 w 1807920"/>
              <a:gd name="textAreaRight" fmla="*/ 1774440 w 1807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74929" h="21600">
                <a:moveTo>
                  <a:pt x="0" y="0"/>
                </a:moveTo>
                <a:lnTo>
                  <a:pt x="74929" y="0"/>
                </a:lnTo>
                <a:lnTo>
                  <a:pt x="74929" y="21600"/>
                </a:lnTo>
                <a:lnTo>
                  <a:pt x="0" y="21600"/>
                </a:lnTo>
                <a:close/>
              </a:path>
              <a:path fill="lightenLess" w="74929" h="21600">
                <a:moveTo>
                  <a:pt x="0" y="0"/>
                </a:moveTo>
                <a:lnTo>
                  <a:pt x="74929" y="0"/>
                </a:lnTo>
                <a:lnTo>
                  <a:pt x="73529" y="1400"/>
                </a:lnTo>
                <a:lnTo>
                  <a:pt x="1400" y="1400"/>
                </a:lnTo>
                <a:close/>
              </a:path>
              <a:path fill="darken" w="74929" h="21600">
                <a:moveTo>
                  <a:pt x="74929" y="0"/>
                </a:moveTo>
                <a:lnTo>
                  <a:pt x="74929" y="21600"/>
                </a:lnTo>
                <a:lnTo>
                  <a:pt x="73529" y="20200"/>
                </a:lnTo>
                <a:lnTo>
                  <a:pt x="73529" y="1400"/>
                </a:lnTo>
                <a:close/>
              </a:path>
              <a:path fill="darkenLess" w="74929" h="21600">
                <a:moveTo>
                  <a:pt x="74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29" y="20200"/>
                </a:lnTo>
                <a:close/>
              </a:path>
              <a:path fill="lighten" w="74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64C-933A-4425-8D77-9DDF30FA1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5619C-90C8-4021-B202-8CD04D7731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09040" y="225360"/>
            <a:ext cx="31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表达式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与运算符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1824120" y="1527120"/>
            <a:ext cx="5719680" cy="827280"/>
          </a:xfrm>
          <a:custGeom>
            <a:avLst/>
            <a:gdLst>
              <a:gd name="textAreaLeft" fmla="*/ 53640 w 5719680"/>
              <a:gd name="textAreaRight" fmla="*/ 5666040 w 57196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149283" h="21600">
                <a:moveTo>
                  <a:pt x="0" y="0"/>
                </a:moveTo>
                <a:lnTo>
                  <a:pt x="149283" y="0"/>
                </a:lnTo>
                <a:lnTo>
                  <a:pt x="149283" y="21600"/>
                </a:lnTo>
                <a:lnTo>
                  <a:pt x="0" y="21600"/>
                </a:lnTo>
                <a:close/>
              </a:path>
              <a:path fill="lightenLess" w="149283" h="21600">
                <a:moveTo>
                  <a:pt x="0" y="0"/>
                </a:moveTo>
                <a:lnTo>
                  <a:pt x="149283" y="0"/>
                </a:lnTo>
                <a:lnTo>
                  <a:pt x="147883" y="1400"/>
                </a:lnTo>
                <a:lnTo>
                  <a:pt x="1400" y="1400"/>
                </a:lnTo>
                <a:close/>
              </a:path>
              <a:path fill="darken" w="149283" h="21600">
                <a:moveTo>
                  <a:pt x="149283" y="0"/>
                </a:moveTo>
                <a:lnTo>
                  <a:pt x="149283" y="21600"/>
                </a:lnTo>
                <a:lnTo>
                  <a:pt x="147883" y="20200"/>
                </a:lnTo>
                <a:lnTo>
                  <a:pt x="147883" y="1400"/>
                </a:lnTo>
                <a:close/>
              </a:path>
              <a:path fill="darkenLess" w="149283" h="21600">
                <a:moveTo>
                  <a:pt x="149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883" y="20200"/>
                </a:lnTo>
                <a:close/>
              </a:path>
              <a:path fill="lighten" w="149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1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表达式的概念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1828800" y="2514600"/>
            <a:ext cx="5719680" cy="826920"/>
          </a:xfrm>
          <a:custGeom>
            <a:avLst/>
            <a:gdLst>
              <a:gd name="textAreaLeft" fmla="*/ 53280 w 5719680"/>
              <a:gd name="textAreaRight" fmla="*/ 5666400 w 57196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149348" h="21600">
                <a:moveTo>
                  <a:pt x="0" y="0"/>
                </a:moveTo>
                <a:lnTo>
                  <a:pt x="149348" y="0"/>
                </a:lnTo>
                <a:lnTo>
                  <a:pt x="149348" y="21600"/>
                </a:lnTo>
                <a:lnTo>
                  <a:pt x="0" y="21600"/>
                </a:lnTo>
                <a:close/>
              </a:path>
              <a:path fill="lightenLess" w="149348" h="21600">
                <a:moveTo>
                  <a:pt x="0" y="0"/>
                </a:moveTo>
                <a:lnTo>
                  <a:pt x="149348" y="0"/>
                </a:lnTo>
                <a:lnTo>
                  <a:pt x="147948" y="1400"/>
                </a:lnTo>
                <a:lnTo>
                  <a:pt x="1400" y="1400"/>
                </a:lnTo>
                <a:close/>
              </a:path>
              <a:path fill="darken" w="149348" h="21600">
                <a:moveTo>
                  <a:pt x="149348" y="0"/>
                </a:moveTo>
                <a:lnTo>
                  <a:pt x="149348" y="21600"/>
                </a:lnTo>
                <a:lnTo>
                  <a:pt x="147948" y="20200"/>
                </a:lnTo>
                <a:lnTo>
                  <a:pt x="147948" y="1400"/>
                </a:lnTo>
                <a:close/>
              </a:path>
              <a:path fill="darkenLess" w="149348" h="21600">
                <a:moveTo>
                  <a:pt x="14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48" y="20200"/>
                </a:lnTo>
                <a:close/>
              </a:path>
              <a:path fill="lighten" w="14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1827360" y="3505320"/>
            <a:ext cx="5717880" cy="826920"/>
          </a:xfrm>
          <a:custGeom>
            <a:avLst/>
            <a:gdLst>
              <a:gd name="textAreaLeft" fmla="*/ 53280 w 5717880"/>
              <a:gd name="textAreaRight" fmla="*/ 5664600 w 57178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149301" h="21600">
                <a:moveTo>
                  <a:pt x="0" y="0"/>
                </a:moveTo>
                <a:lnTo>
                  <a:pt x="149301" y="0"/>
                </a:lnTo>
                <a:lnTo>
                  <a:pt x="149301" y="21600"/>
                </a:lnTo>
                <a:lnTo>
                  <a:pt x="0" y="21600"/>
                </a:lnTo>
                <a:close/>
              </a:path>
              <a:path fill="lightenLess" w="149301" h="21600">
                <a:moveTo>
                  <a:pt x="0" y="0"/>
                </a:moveTo>
                <a:lnTo>
                  <a:pt x="149301" y="0"/>
                </a:lnTo>
                <a:lnTo>
                  <a:pt x="147901" y="1400"/>
                </a:lnTo>
                <a:lnTo>
                  <a:pt x="1400" y="1400"/>
                </a:lnTo>
                <a:close/>
              </a:path>
              <a:path fill="darken" w="149301" h="21600">
                <a:moveTo>
                  <a:pt x="149301" y="0"/>
                </a:moveTo>
                <a:lnTo>
                  <a:pt x="149301" y="21600"/>
                </a:lnTo>
                <a:lnTo>
                  <a:pt x="147901" y="20200"/>
                </a:lnTo>
                <a:lnTo>
                  <a:pt x="147901" y="1400"/>
                </a:lnTo>
                <a:close/>
              </a:path>
              <a:path fill="darkenLess" w="149301" h="21600">
                <a:moveTo>
                  <a:pt x="1493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01" y="20200"/>
                </a:lnTo>
                <a:close/>
              </a:path>
              <a:path fill="lighten" w="1493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3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运算符的优先级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7360" y="4494240"/>
            <a:ext cx="2360520" cy="826920"/>
          </a:xfrm>
          <a:custGeom>
            <a:avLst/>
            <a:gdLst>
              <a:gd name="textAreaLeft" fmla="*/ 53280 w 2360520"/>
              <a:gd name="textAreaRight" fmla="*/ 2307240 w 23605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61642" h="21600">
                <a:moveTo>
                  <a:pt x="0" y="0"/>
                </a:moveTo>
                <a:lnTo>
                  <a:pt x="61642" y="0"/>
                </a:lnTo>
                <a:lnTo>
                  <a:pt x="61642" y="21600"/>
                </a:lnTo>
                <a:lnTo>
                  <a:pt x="0" y="21600"/>
                </a:lnTo>
                <a:close/>
              </a:path>
              <a:path fill="lightenLess" w="61642" h="21600">
                <a:moveTo>
                  <a:pt x="0" y="0"/>
                </a:moveTo>
                <a:lnTo>
                  <a:pt x="61642" y="0"/>
                </a:lnTo>
                <a:lnTo>
                  <a:pt x="60242" y="1400"/>
                </a:lnTo>
                <a:lnTo>
                  <a:pt x="1400" y="1400"/>
                </a:lnTo>
                <a:close/>
              </a:path>
              <a:path fill="darken" w="61642" h="21600">
                <a:moveTo>
                  <a:pt x="61642" y="0"/>
                </a:moveTo>
                <a:lnTo>
                  <a:pt x="61642" y="21600"/>
                </a:lnTo>
                <a:lnTo>
                  <a:pt x="60242" y="20200"/>
                </a:lnTo>
                <a:lnTo>
                  <a:pt x="60242" y="1400"/>
                </a:lnTo>
                <a:close/>
              </a:path>
              <a:path fill="darkenLess" w="61642" h="21600">
                <a:moveTo>
                  <a:pt x="6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2" y="20200"/>
                </a:lnTo>
                <a:close/>
              </a:path>
              <a:path fill="lighten" w="6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返       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endshow"/>
          </p:cNvPr>
          <p:cNvSpPr/>
          <p:nvPr/>
        </p:nvSpPr>
        <p:spPr>
          <a:xfrm>
            <a:off x="5181480" y="4495680"/>
            <a:ext cx="2362320" cy="827280"/>
          </a:xfrm>
          <a:custGeom>
            <a:avLst/>
            <a:gdLst>
              <a:gd name="textAreaLeft" fmla="*/ 53640 w 2362320"/>
              <a:gd name="textAreaRight" fmla="*/ 2308680 w 23623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61662" h="21600">
                <a:moveTo>
                  <a:pt x="0" y="0"/>
                </a:moveTo>
                <a:lnTo>
                  <a:pt x="61662" y="0"/>
                </a:lnTo>
                <a:lnTo>
                  <a:pt x="61662" y="21600"/>
                </a:lnTo>
                <a:lnTo>
                  <a:pt x="0" y="21600"/>
                </a:lnTo>
                <a:close/>
              </a:path>
              <a:path fill="lightenLess" w="61662" h="21600">
                <a:moveTo>
                  <a:pt x="0" y="0"/>
                </a:moveTo>
                <a:lnTo>
                  <a:pt x="61662" y="0"/>
                </a:lnTo>
                <a:lnTo>
                  <a:pt x="60262" y="1400"/>
                </a:lnTo>
                <a:lnTo>
                  <a:pt x="1400" y="1400"/>
                </a:lnTo>
                <a:close/>
              </a:path>
              <a:path fill="darken" w="61662" h="21600">
                <a:moveTo>
                  <a:pt x="61662" y="0"/>
                </a:moveTo>
                <a:lnTo>
                  <a:pt x="61662" y="21600"/>
                </a:lnTo>
                <a:lnTo>
                  <a:pt x="60262" y="20200"/>
                </a:lnTo>
                <a:lnTo>
                  <a:pt x="60262" y="1400"/>
                </a:lnTo>
                <a:close/>
              </a:path>
              <a:path fill="darkenLess" w="61662" h="21600">
                <a:moveTo>
                  <a:pt x="6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2" y="20200"/>
                </a:lnTo>
                <a:close/>
              </a:path>
              <a:path fill="lighten" w="6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dbd3"/>
                </a:solidFill>
                <a:latin typeface="Times New Roman"/>
              </a:rPr>
              <a:t>退        出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277-20F8-4168-B441-EE19FC3BC3B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D5DBF-7CA9-4334-A652-29C14FA659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" y="4114800"/>
            <a:ext cx="86104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4920" y="4267080"/>
            <a:ext cx="1447560" cy="459720"/>
            <a:chOff x="304920" y="4267080"/>
            <a:chExt cx="1447560" cy="459720"/>
          </a:xfrm>
        </p:grpSpPr>
        <p:sp>
          <p:nvSpPr>
            <p:cNvPr id="309" name=""/>
            <p:cNvSpPr/>
            <p:nvPr/>
          </p:nvSpPr>
          <p:spPr>
            <a:xfrm>
              <a:off x="913680" y="42670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20" y="42670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95680" y="4267080"/>
            <a:ext cx="1447560" cy="459720"/>
            <a:chOff x="4495680" y="4267080"/>
            <a:chExt cx="1447560" cy="459720"/>
          </a:xfrm>
        </p:grpSpPr>
        <p:sp>
          <p:nvSpPr>
            <p:cNvPr id="312" name=""/>
            <p:cNvSpPr/>
            <p:nvPr/>
          </p:nvSpPr>
          <p:spPr>
            <a:xfrm>
              <a:off x="4982760" y="42670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5680" y="42670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101040" y="225360"/>
            <a:ext cx="33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表达式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的概念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990720"/>
            <a:ext cx="8610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由运算符和括号将常量、变量和函数连接起来的有意义的式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单个的常量、变量和函数都可以看作是最简单的表达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达式按照运算结果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型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可以分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四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字符型表达式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■ 数值型表达式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逻辑型表达式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■ 日期型表达式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0960" y="42670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列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18520" y="4267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??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列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4520" y="3519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显示命令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4160" y="5029200"/>
            <a:ext cx="86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计算表达式的值，并将其显示到屏幕上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区别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换行显示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??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换行显示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A68-FA54-4ACF-99D3-1EC4CD9D03F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D3840-EE62-4473-9701-74A5168A38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557160" y="225360"/>
            <a:ext cx="24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运算符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990720"/>
            <a:ext cx="861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运算符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是对数据对象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进行操作运算的符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符以其结果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组有如下五类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算术运算符                  ■关系运算符                   ■逻辑运算符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字符串运算符              ■日期运算符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26600" y="268128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算术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3242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加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减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除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**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方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^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方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%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余数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143000" y="4723920"/>
            <a:ext cx="1932120" cy="608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4600" y="5257800"/>
            <a:ext cx="13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40000" y="4723920"/>
            <a:ext cx="18900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65320" y="52578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693600" y="4723920"/>
            <a:ext cx="80172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05440" y="5257800"/>
            <a:ext cx="13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114440" y="4724280"/>
            <a:ext cx="2135160" cy="519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85320" y="5257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结果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5C7-9F17-4EB7-8D27-EADF43E376B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B7ABC-A99C-4052-AA50-816A96F324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374760"/>
            <a:ext cx="87631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符有如下十种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小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大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等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小于或等于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g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大于或等于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#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!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$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属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 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=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精确等于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48211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符两边的数据类型必须相同，不同类型的数据无法进行有意义的比较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产生逻辑结果。即只能是逻辑“真”或逻辑“假”中的一种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4CF-25E9-4439-A298-4F05C84718E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72903-58C4-4FA1-9138-8D02AD7B6E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0880" y="289080"/>
            <a:ext cx="8534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逻辑运算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运算符有下列几个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NOT.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非（单边运算符）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！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非（单边运算符）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3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AND.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与    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×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4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OR.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或    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×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320" y="2590920"/>
            <a:ext cx="8186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字符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字符串精确连接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×C→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字符串非精确连接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×C→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日期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加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减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日期加上数值得到将来的日期；数值加上日期得到将来的日期；日期减去数值得到过去的日期；两日期相减得到两个日期相差的天数。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EF8-5F65-4663-B44C-879EC334651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82E63-6D29-4A6A-8CF2-C904356091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747880" y="15228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3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运算符的优先级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70200" y="838080"/>
            <a:ext cx="59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算术运算符                      字符串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1335240"/>
            <a:ext cx="4578480" cy="252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1351080"/>
            <a:ext cx="259056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3035160"/>
            <a:ext cx="2590560" cy="69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8760" y="134244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最高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1371600"/>
            <a:ext cx="437652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一元运算符 “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正负号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87840" y="182880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94120" y="2057400"/>
            <a:ext cx="138528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**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^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乘方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7840" y="247644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77240" y="2743200"/>
            <a:ext cx="229572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、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%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乘、除和余数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316224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90880" y="3429000"/>
            <a:ext cx="1391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加和减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59400" y="1447920"/>
            <a:ext cx="232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精确连接和非精确连接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45400" y="3146400"/>
            <a:ext cx="1391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加和减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22800" y="2457360"/>
            <a:ext cx="11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79240" y="3976560"/>
            <a:ext cx="10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572000"/>
            <a:ext cx="3200400" cy="14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4648320"/>
            <a:ext cx="2955960" cy="8254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#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!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$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=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1680" y="556272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各运算符优先级相同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65760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7640" y="430488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次高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3962520"/>
            <a:ext cx="0" cy="28954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97376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98960" y="3962520"/>
            <a:ext cx="10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495680"/>
            <a:ext cx="2722680" cy="198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4594320"/>
            <a:ext cx="2444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NOT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或！（逻辑非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21680" y="5051520"/>
            <a:ext cx="1440" cy="26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74040" y="5280120"/>
            <a:ext cx="150480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AND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逻辑与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1680" y="5699160"/>
            <a:ext cx="1440" cy="26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33720" y="5965920"/>
            <a:ext cx="137088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OR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逻辑或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5320" y="454284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最低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EC5-7014-478F-A672-8C9CBCD2986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FCCC5-3A04-43A2-9D19-226BF3A7022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950080" y="571500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67880" y="22536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小    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2920" y="879480"/>
            <a:ext cx="86374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对内存变量的赋值操作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STO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或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进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显示内存变量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。前者为不分屏显示，后者为分屏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内存变量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SAV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保存，也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CLEAR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删除，还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RESTO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恢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数组必须先定义后使用，数组元素的赋值操作与内存变量的赋值操作基本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表达式按其值的数据类型可以分为四类，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字符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数值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期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运算符按其运算的结果可以分为五类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算术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字符串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运算符的优先级有高低之分，最高的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算术运算符、字符串运算符和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其次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最低的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A3C-BF08-446B-BC28-F48BA800118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808CE-6B9B-4A39-BA50-763CCCEECA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02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VF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内存变量的基本操作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2692440" y="248904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2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显示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2687760" y="313704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3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保存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endshow"/>
          </p:cNvPr>
          <p:cNvSpPr/>
          <p:nvPr/>
        </p:nvSpPr>
        <p:spPr>
          <a:xfrm>
            <a:off x="533412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1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对内存变量的赋值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692440" y="38098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4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删除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2692440" y="44956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5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恢复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274320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D24-1DFA-4D8E-84AF-F1B92F10E36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7E0E-C6D2-4EF4-A0FA-A48F89D34B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3880"/>
            <a:ext cx="8489880" cy="457200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7931e"/>
            </a:solidFill>
            <a:miter/>
          </a:ln>
          <a:effectLst>
            <a:outerShdw dist="107932" dir="2700000" blurRad="0" rotWithShape="0">
              <a:srgbClr val="33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88040" y="10666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的赋值操作和其它高级语言一样，必须先定义后使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40160" y="15228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对内存变量的赋值操作</a:t>
            </a:r>
            <a:r>
              <a:rPr b="0" lang="zh-CN" sz="24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9480" y="160020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TOR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TO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632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19807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19807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5520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892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去向子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62520" y="1980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53080" y="1980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2200" y="26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6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变量名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0 TO AA,BB,CC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数值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A,BB,CC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"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李磊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" TO NAME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字符串“李磊”赋给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212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520" y="3124080"/>
            <a:ext cx="869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784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03848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13080" y="39625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=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86200" y="43434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9920" y="464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变量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4266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748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赋值操作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7600" y="464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95880" y="43434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440" y="535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389560"/>
            <a:ext cx="990360" cy="40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01600" y="541008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=.T.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逻辑真值赋给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CA9-EC9E-4CDC-979F-7BE5B7FAE14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20EB-3D39-4D23-ACF3-A9FDB855F4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795240"/>
            <a:ext cx="8611920" cy="123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8280" y="15228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显示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066680"/>
            <a:ext cx="1387440" cy="533520"/>
            <a:chOff x="457200" y="1066680"/>
            <a:chExt cx="1387440" cy="533520"/>
          </a:xfrm>
        </p:grpSpPr>
        <p:sp>
          <p:nvSpPr>
            <p:cNvPr id="131" name=""/>
            <p:cNvSpPr/>
            <p:nvPr/>
          </p:nvSpPr>
          <p:spPr>
            <a:xfrm>
              <a:off x="457200" y="1066680"/>
              <a:ext cx="138744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6320" y="1066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955880" y="838080"/>
            <a:ext cx="642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[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TO PRINTER[PROMPT]/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NOCONSOLE]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64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920" y="2057400"/>
            <a:ext cx="73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显示当前在内存中定义的自定义内存变量和系统内存变量，以及自定义菜单和自定义窗口的有关信息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6080" y="2819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为命令动词，表示此命令用以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2162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MEMORY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子句，与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起构成复合命令，表示此命令用以显示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21624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00068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可以通过它有选择地显示内存变量和数组信息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34340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TO PRINTER[PROMPT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显示结果在打印机上输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4600" y="5146560"/>
            <a:ext cx="75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显示结果输出到指定的文件中，该文件为文本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NOCONSOL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在屏幕上显示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C71-CC3E-4A22-A7D2-9C90822F455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0DBDF-CF27-41A4-838A-62382CCE78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17440"/>
            <a:ext cx="8611920" cy="123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04920"/>
            <a:ext cx="1387440" cy="533160"/>
            <a:chOff x="457200" y="304920"/>
            <a:chExt cx="1387440" cy="533160"/>
          </a:xfrm>
        </p:grpSpPr>
        <p:sp>
          <p:nvSpPr>
            <p:cNvPr id="148" name=""/>
            <p:cNvSpPr/>
            <p:nvPr/>
          </p:nvSpPr>
          <p:spPr>
            <a:xfrm>
              <a:off x="457200" y="304920"/>
              <a:ext cx="138744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4280" y="304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44640" y="22860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SPLAY MEMORY [LIK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框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TO PRINTER[PROMPT]/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NOCONSOLE]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0640" y="1523880"/>
            <a:ext cx="8656200" cy="459720"/>
            <a:chOff x="260640" y="1523880"/>
            <a:chExt cx="8656200" cy="459720"/>
          </a:xfrm>
        </p:grpSpPr>
        <p:sp>
          <p:nvSpPr>
            <p:cNvPr id="152" name=""/>
            <p:cNvSpPr/>
            <p:nvPr/>
          </p:nvSpPr>
          <p:spPr>
            <a:xfrm>
              <a:off x="260640" y="1523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功能：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55920" y="1523880"/>
              <a:ext cx="73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显示当前在内存中定义的自定义内存变量和系统内存变量，以及自定义菜单和自定义窗口的有关信息。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400" y="2286000"/>
            <a:ext cx="88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参数描述：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SPLAY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分屏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其它参数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108240"/>
            <a:ext cx="86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区别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显示内存变量时不暂停，在屏幕上只保留最后一屏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显示内存变量时，若内存变量数超过一屏，则在每显示一屏后暂停，按任意键后继续显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AD9-6D1A-41E7-B0D4-4EE30AAEDA1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68DE4-C2FD-4352-9D35-FC4A5B01CAA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32544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命令示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命令窗口中执行下条命令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屏幕显示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7" name="bmp60A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6172200" cy="48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在不带任何参数时将显示所有内存变量（包括系统内存变量），本例需要多屏显示，因而在屏幕上只保留最后一屏的内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934-F06B-40F0-96DC-7165946FD0F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EE003-5080-4455-843B-2481E37329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24912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2544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命令示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命令窗口中执行下条命令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屏幕显示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1" name="bmp2052" descr=""/>
          <p:cNvPicPr/>
          <p:nvPr/>
        </p:nvPicPr>
        <p:blipFill>
          <a:blip r:embed="rId1"/>
          <a:stretch/>
        </p:blipFill>
        <p:spPr>
          <a:xfrm>
            <a:off x="3352680" y="1201680"/>
            <a:ext cx="5481720" cy="4894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2184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在不带任何参数时将分屏显示所有内存变量（包括系统内存变量）。此例中需要多屏显示，因而在屏幕会一屏一屏的显示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3440" y="5334120"/>
            <a:ext cx="6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右图是第一屏的内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40A-B2C6-4708-8DD2-FBA6741C8D7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772D5-2324-4A22-826C-145D3E64A7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68280" y="15228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保存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795240"/>
            <a:ext cx="8611920" cy="14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83664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&lt;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/ &lt;MEMO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备注字段名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[ALL LIKE/ EXCEPT &lt;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200" y="1143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格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0560" y="1143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1143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0020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143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00" y="2403360"/>
            <a:ext cx="846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将内存中的部分或全部内存变量以文件的形式存入磁盘，文件名由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，文件扩展名的缺省值为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保存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保存内存变量和数组的内存变量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MEMO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备注字段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保存内存变量和数组的备注字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LL 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符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那些变量存入指定的文件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LL EXCEPT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不符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那些变量存入指定的文件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1CD-9358-4C36-990A-502C4C1E539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A47D9-7660-4857-A214-D50E95388C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37:43Z</dcterms:modified>
  <cp:revision>52</cp:revision>
  <dc:subject/>
  <dc:title>Visual FoxPro 6.0程序设计演示文稿</dc:title>
</cp:coreProperties>
</file>